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CA0A-9D6F-4C4A-A61C-F37890D2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9B5-5205-4A03-9FE9-197508E9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39A1-29DA-4E22-AA7B-791F4D37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1EDE-E59B-4991-9ECD-BCDDE25D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96A9-8C19-483B-82B5-5594F0B3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EAE-2A49-4011-A4EE-C8AA34E4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4F33-4858-4305-A512-AF5A23F4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215F-F700-465E-9AD0-EC39E8173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D5FB-B4BF-40A0-B480-F597B078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FDBB-5ABB-4AEA-89E9-6AEFFCA7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98E6-1D48-4EF1-984B-71CEAC36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B065-E397-4259-B8AC-00D92810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A1B9-5ADB-47A7-9048-0E2079FDE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2736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rketing-Mix (Laden / Vers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901800"/>
            <a:ext cx="1368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RES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117440"/>
            <a:ext cx="13665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eis(€/Charge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3280" y="901800"/>
            <a:ext cx="1368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4M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3280" y="1117440"/>
            <a:ext cx="1366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eis(€/Stück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981080"/>
            <a:ext cx="13665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3280" y="1981080"/>
            <a:ext cx="1366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413080"/>
            <a:ext cx="13665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3280" y="2413080"/>
            <a:ext cx="13669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901800"/>
            <a:ext cx="1368360" cy="194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3280" y="901800"/>
            <a:ext cx="1368360" cy="194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844720"/>
            <a:ext cx="273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Verkauf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685800"/>
            <a:ext cx="2736720" cy="2590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10587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843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6360" y="698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058920" y="10587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8431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788000" y="3722760"/>
            <a:ext cx="4033800" cy="1800000"/>
            <a:chOff x="4788000" y="3722760"/>
            <a:chExt cx="4033800" cy="1800000"/>
          </a:xfrm>
        </p:grpSpPr>
        <p:sp>
          <p:nvSpPr>
            <p:cNvPr id="60" name=""/>
            <p:cNvSpPr/>
            <p:nvPr/>
          </p:nvSpPr>
          <p:spPr>
            <a:xfrm>
              <a:off x="4788000" y="372276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r Absatz:  ____ Ch. DRESS        ____ St.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 _______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6084720" y="4227480"/>
              <a:ext cx="2519640" cy="142560"/>
              <a:chOff x="6084720" y="4227480"/>
              <a:chExt cx="2519640" cy="142560"/>
            </a:xfrm>
          </p:grpSpPr>
          <p:sp>
            <p:nvSpPr>
              <p:cNvPr id="62" name=""/>
              <p:cNvSpPr/>
              <p:nvPr/>
            </p:nvSpPr>
            <p:spPr>
              <a:xfrm>
                <a:off x="6084720" y="430020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596360" y="430020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7236000" y="4227480"/>
                <a:ext cx="144360" cy="142560"/>
                <a:chOff x="7236000" y="4227480"/>
                <a:chExt cx="144360" cy="14256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7236000" y="430020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308720" y="422748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" name=""/>
          <p:cNvGrpSpPr/>
          <p:nvPr/>
        </p:nvGrpSpPr>
        <p:grpSpPr>
          <a:xfrm>
            <a:off x="324000" y="3579840"/>
            <a:ext cx="2736720" cy="3095640"/>
            <a:chOff x="324000" y="3579840"/>
            <a:chExt cx="2736720" cy="3095640"/>
          </a:xfrm>
        </p:grpSpPr>
        <p:sp>
          <p:nvSpPr>
            <p:cNvPr id="68" name=""/>
            <p:cNvSpPr/>
            <p:nvPr/>
          </p:nvSpPr>
          <p:spPr>
            <a:xfrm>
              <a:off x="324000" y="357984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4000" y="379548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000" y="40114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92360" y="379548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92360" y="40114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4000" y="444312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92360" y="444312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4000" y="494820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92360" y="494820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00" y="379548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92360" y="379548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4000" y="54514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4000" y="357984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4000" y="566712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4M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4000" y="610056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638784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826920" y="260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mit Versandmarkt (P3 und 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2421000"/>
            <a:ext cx="1440000" cy="13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25718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59280" y="2421000"/>
            <a:ext cx="1008000" cy="11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48000" y="25131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95640" y="692280"/>
            <a:ext cx="1657440" cy="1728720"/>
            <a:chOff x="3995640" y="692280"/>
            <a:chExt cx="1657440" cy="1728720"/>
          </a:xfrm>
        </p:grpSpPr>
        <p:grpSp>
          <p:nvGrpSpPr>
            <p:cNvPr id="90" name=""/>
            <p:cNvGrpSpPr/>
            <p:nvPr/>
          </p:nvGrpSpPr>
          <p:grpSpPr>
            <a:xfrm>
              <a:off x="3995640" y="692280"/>
              <a:ext cx="1657440" cy="1728720"/>
              <a:chOff x="3995640" y="692280"/>
              <a:chExt cx="1657440" cy="1728720"/>
            </a:xfrm>
          </p:grpSpPr>
          <p:sp>
            <p:nvSpPr>
              <p:cNvPr id="91" name=""/>
              <p:cNvSpPr/>
              <p:nvPr/>
            </p:nvSpPr>
            <p:spPr>
              <a:xfrm>
                <a:off x="3995640" y="692280"/>
                <a:ext cx="165600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1. 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 / Versan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995640" y="1130400"/>
                <a:ext cx="165600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95640" y="1562040"/>
                <a:ext cx="165600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995640" y="692280"/>
                <a:ext cx="165744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3995640" y="1989000"/>
              <a:ext cx="1656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Me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960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8120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557360"/>
            <a:ext cx="266364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mic Sans MS"/>
              </a:rPr>
              <a:t>Printwerbung(€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 4 Entscheidungsfind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EGS</cp:lastModifiedBy>
  <dcterms:modified xsi:type="dcterms:W3CDTF">2008-07-24T21:43:30Z</dcterms:modified>
  <cp:revision>24</cp:revision>
  <dc:subject/>
  <dc:title>Folie 1</dc:title>
</cp:coreProperties>
</file>